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BDB-C3A4-4E88-BCEF-3702BB431D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819-3015-4090-BBE2-871E38C43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F34F-4199-4540-A05A-33D18BEE3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C061-1B1E-4470-84B0-D567F9667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B415-C092-45C3-8C5E-1D79544BD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8C7-633B-4897-85BB-42566D081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32F9-D4E7-419A-89E8-F55C30762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2F0B-E0AC-41AF-80CE-71D7943D6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D90-F7E6-4396-AF4D-36CD8CDB4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607E-CD96-4BDD-94C3-E8611D52B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18C9-5E4F-4003-99AF-A6AC18356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7607-E25E-4A30-87CF-728B62768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6A5-5431-4CE9-BFDB-935BA76DF7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6F7-95B2-4A47-B3F5-2A39A4C6B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83F-29FD-4348-8FFC-AF13B5493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7EC-D90B-4B50-A8E7-2EBFAC78B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19F-4C5A-4C5E-8FC5-591D5C7FF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1D2-D544-42EA-90D4-012BFDEE5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B5C-DECF-463E-8BCB-99BD5A966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3EE-527B-431C-A9C5-24D8111D8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F340-3C8C-4F72-B6D3-CEB3255E3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917C-0C6D-4997-B05A-C27E54424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253-D328-4A53-877F-DD82A75CA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383-5402-4D30-850D-9513998D5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7A6-7729-4CBF-B313-EFB37B5B9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9233-327F-42F0-827E-BE2F22065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0548-4A12-4A4B-9D57-B4382F831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5D50-5E17-41CA-A8AC-53D2B6033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518-29EC-477A-BCDB-A99A12D0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E7A-EAFE-4C7E-A055-2FD6F88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47D-9F8F-4038-834A-10461C34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591-A3F0-45B7-B462-6CA89E0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A5B2-9DB9-483F-B2C0-028AE88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A24-4EFC-4696-9FAE-881B325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EF0E-0EA1-4E75-B68E-AE28029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2786-6B56-4EA8-AF38-C7A1170C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E6A-953D-4E23-8339-E3941F6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DC06-F97A-470B-A1B1-C530D81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4F0-1343-4776-8DA6-D090C8F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B94-BA90-422A-93C7-376859E8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E206-872F-450D-A7D7-6591AA6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8477-A0AA-4B14-82E3-AEA64F3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728C-6375-4A51-B593-E90C924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48AB-0037-41F8-9602-D9715205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CA0D-21AA-4C7A-B84F-27DB9252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CB1-0043-4589-A8EE-10BB3EC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CEE-F624-44D6-9DEE-A5892C9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833-A193-40C6-99EE-923DD95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300-838F-46E6-85EF-4770506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826-9A2C-41A3-8916-DA5CC5E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A29-B16A-44EF-A0D1-0FF01FD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DF8-CB74-49FE-96AD-523F1A1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192-7F82-4595-AE91-2F220699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9389-F327-434F-A2EA-945721A55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45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9360" y="3200400"/>
            <a:ext cx="25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is us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is usu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63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70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87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93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00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02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1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20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2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4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15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0240" y="5698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Ey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Jill Luckey</cp:lastModifiedBy>
  <dcterms:modified xsi:type="dcterms:W3CDTF">2017-12-06T13:49:12Z</dcterms:modified>
  <cp:revision>30</cp:revision>
  <dc:subject/>
  <dc:title>Slide 1</dc:title>
</cp:coreProperties>
</file>